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6.gif" ContentType="image/gif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06E-C2B8-4458-959D-04DB4658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BA8-D19C-4059-B09A-5FC0544E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8D8-2B4A-4C67-80F9-C2339416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00A-6BCD-4257-87A7-848B7CB6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CA5-4F6A-41C8-8216-2077C838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84C-624E-455C-83DA-85C33EF9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E53-F418-42B5-86E7-01B5CAF2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BCD-44E2-4802-82E4-08043876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7AE-B7E9-42D6-86FA-431FC5B2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06A-2C42-433C-B6CD-66C769CD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857-A8BD-4E2B-AC3F-CF2E0B8B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2CA-7BDD-4C88-B7F3-EAA70BAD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0692-23D9-4748-BB52-276EAFFD0C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6858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向左走，向右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21337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良好责任心的培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做一个有责任感的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89692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午放学，同学相约小明去看球，可是小明是值日生，到底是去看球还是做值日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26028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第三幕：值日事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行楷"/>
              </a:rPr>
              <a:t>拍 摄 现 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3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该如何做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923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做完值日再去看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386064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去看球，反正少我一个也无所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5280" y="765000"/>
            <a:ext cx="568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Free Talk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刚才我们在片场看到的《小明的一天》，我想大家都会发现，这就是发生在我们身边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84920" y="3270240"/>
            <a:ext cx="171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情很小，道理却深。每一次行为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不同的选择，都会导致不同的行为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1760" y="4508640"/>
            <a:ext cx="4810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孰是孰非？我想大家心中都会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自己的判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播 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2280" y="2332080"/>
            <a:ext cx="86868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个信念播种下去，收获的将是一个行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85640" y="30686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个行动播种下去，收获的将是一个习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85640" y="38606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个习惯播种下去，收获的将是一种性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30040" y="46530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种性格关系到一个人的命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93440" y="5300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有了责任心的性格，就会收获金色的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18003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692360" y="1268280"/>
            <a:ext cx="5904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The end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每当我们站在一个路口上，我们都要做出选择——向左走，还是向右走。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360" y="3213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校园生活也同样如此，我们时时刻刻都处在选择的十字路口上，那么如何选择才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培养我们的责任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5229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是我们每个人都必须面对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8002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面让我们来看一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《小明的一天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3622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做一个有集体荣誉感的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明清晨上学，忘了戴胸卡，被值周生拦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76360" y="260280"/>
            <a:ext cx="62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第一幕：上学两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4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该如何做</a:t>
            </a:r>
            <a:r>
              <a:rPr b="0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58920" y="2679840"/>
            <a:ext cx="68421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跑回家拿胸卡，迟到了也好解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88960" y="4292640"/>
            <a:ext cx="106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硬闯进去，争取蒙混过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64280" y="0"/>
            <a:ext cx="2079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835280" y="765000"/>
            <a:ext cx="568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Free Talk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做一个有分寸的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60964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习时间，同学欲与小明讨论问题，是讨论问题，还是力劝同学遵守纪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18900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第二幕：课堂纠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该如何做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2679840"/>
            <a:ext cx="705816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持上课不说闲话，以免影响其他同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4040" y="4221000"/>
            <a:ext cx="11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讨论很正常，真的不会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03640" y="83664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835280" y="765000"/>
            <a:ext cx="568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Free Talk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4:36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6:24Z</dcterms:modified>
  <cp:revision>40</cp:revision>
  <dc:subject>主题班会课件(分28大类): http://shop62905894.taobao.com</dc:subject>
  <dc:title>主题班会课件(分28大类): http://shop62905894.taobao.com</dc:title>
</cp:coreProperties>
</file>